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F00-A266-4160-9689-962BE278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65E-9457-4955-806C-E7E7E21F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39E-78DC-40B9-9E56-167683D5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40F-1044-404D-9BA6-1702B6C6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A6F5-76C3-400D-9759-1AB0C32E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F1DB-3374-4B35-A85C-21AD044E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0347-F89E-4BFB-A720-233FF669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830A-F7EE-4AA4-AF17-2A362A48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E7F2-2E3F-4F59-B756-3E16AF50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A070-3BDA-4B54-8076-F282E555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B447-2A5F-4C87-8C76-99F1258B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8D8-F7DB-40DB-8AEC-E9C927E1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63A0-39EB-48D9-8139-600778B2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6CF9-1E86-4B89-A33D-9823A18C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D23B-097B-4E53-BE57-5F36BD98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983E-4FA6-4E5F-AED1-04F1849B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0CFE-D25B-4A34-BB53-5E9D9596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F014-A530-494A-998C-7E42088A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DD3-0EE2-48F9-B454-DD1D4A15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932-0A18-4DE7-A7EC-E8D8268D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0940-8FA5-4153-88D9-1303B7B0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C2A3-7068-4573-A84C-1D59AE15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88E-8291-459C-9B10-E4F653D0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398-592F-4A4C-80B5-0BEE5BB8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3114-CB18-4A9D-8666-AC3C91750D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6CA9-0CAC-4DBF-8CDA-22087DCE1A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ill There Was No Remedy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(The Divided Kingdom)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6, Lesson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22-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Kings 17:1 – 18:4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lijah the Tishbi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ings 17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jah's message to Ahab concerning the three years' drought, v.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commanded to go to the brook Cherith; where he is fed by ravens, v. 2-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afterward goes to a widow's house at Zarephath, and miraculously multiplies her meal and oil, v. 8-1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son dies, and Elijah restores him to life, v. 17-2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4152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590920" y="380880"/>
            <a:ext cx="3657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laces of Not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4572000"/>
            <a:ext cx="914400" cy="609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3048120"/>
            <a:ext cx="144756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438960" y="0"/>
            <a:ext cx="2705040" cy="2619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7772400" y="6858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5246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581280" y="152280"/>
            <a:ext cx="43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shon brook and valley from Mt Car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685800"/>
            <a:ext cx="1295280" cy="83808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5246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924360" y="0"/>
            <a:ext cx="5219640" cy="3914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0" y="4114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shon 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361960" y="1219320"/>
            <a:ext cx="1600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6553440" cy="5246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15680" y="5565600"/>
            <a:ext cx="56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t. Carmel and Mediterranean from e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1828800" y="837720"/>
            <a:ext cx="1447920" cy="228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lijah Ready to Face Ahab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Kings 1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jah is commanded by the Lord to show himself to Ahab, v. 1-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ab, and Obadiah his steward, search the land to find grass for the cattle, v. 3-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adiah meets Elijah, who commands him to inform Ahab that he is ready to present himself before him, v. 7-1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jah and Ahab meet, v. 16-1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Elijah Challenges Ahab and Baal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ijah Challenges  the 450 priests of Baal   v. 19-2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posal is accepted, and the priests of Baal call in vain upon their god through the whole day   v. 25-2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Confirms By Fire His Relation to Elij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eople acknowledge Yahweh to be the true God, and kill all the prophets of Baal   v. 30-4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ijah promises Ahab that there shall be immediate rain; it comes accordingly, and Ahab and Elijah come to Jezreel  v. 41-4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7010280" cy="6788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410080" y="64771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029200"/>
            <a:ext cx="2590920" cy="1143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160020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ijah runs before Ahab to the entrance of Jezre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9T11:36:28Z</dcterms:created>
  <dc:creator>Terry W. Benton</dc:creator>
  <dc:description/>
  <dc:language>en-US</dc:language>
  <cp:lastModifiedBy>Frank D Vines</cp:lastModifiedBy>
  <dcterms:modified xsi:type="dcterms:W3CDTF">2006-05-01T22:30:23Z</dcterms:modified>
  <cp:revision>2</cp:revision>
  <dc:subject/>
  <dc:title>Till There Was No Remedy (The Divided Kingdom)</dc:title>
</cp:coreProperties>
</file>